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3A4-71CA-4463-B4EE-28790174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385-5343-4B9A-A808-1E79D2AB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E5A-E709-465B-AEE2-26B8D468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885-5D66-4849-B1D0-E5FB835A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058-7549-48B9-90E9-FB0120D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9E5-60F3-4B7F-8C80-AEB9022A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6F5-4435-4FB1-B0B7-FA5D1FE9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671-6204-4DC7-A7AD-0DC96652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EAC-1F06-431B-B557-65712081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349-6E51-4960-8C01-B3F043A5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C8B-0E00-44A3-91BE-435E338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469-A4EA-417B-8276-4C160A65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C92F-3D68-49BD-BBF8-CADC58AAA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413000"/>
            <a:ext cx="34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2a3</cp:lastModifiedBy>
  <dcterms:modified xsi:type="dcterms:W3CDTF">2012-06-18T10:54:08Z</dcterms:modified>
  <cp:revision>31</cp:revision>
  <dc:subject/>
  <dc:title>SALARIUL</dc:title>
</cp:coreProperties>
</file>